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C98-25C2-4938-A0F4-B85CB5C02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9F6E-0367-4C93-B467-535718F26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F95-C104-4F34-A959-86047963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B80-B806-433B-A99C-0DC99837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1A1-5A01-4006-8A3C-21C16E91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302-8905-49C1-A718-3393D85F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45C-FB2B-4A5D-86FA-A2BBDFDE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BA0-A359-442E-A37D-B369522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E3C-0FA9-490B-A227-D6B1B2A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46E-C0BF-42A8-84EB-9519368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6AE-0F31-4102-9B4F-9DA7C72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8C4-92F7-4B39-9D1D-0523A87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2BB-9D81-4EF3-8A0B-B64EFF3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3EF-A74C-41A4-90BE-3051A70E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E6E1-743A-4DBF-A4C2-6D7503FD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ong periods of isolation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long periods of isolation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05_0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5_05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24:37Z</dcterms:modified>
  <cp:revision>82</cp:revision>
  <dc:subject/>
  <dc:title>CRS Chapter 4</dc:title>
</cp:coreProperties>
</file>